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3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8F5A7-38BA-4A3E-A379-9D8A431D112A}"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omas Jeffers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untry’s Greatest Presid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omas Jeffers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untry’s Greatest Presid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The Election of 18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hn Adams, the 1st President to live in Washington, D.C., leaves before Jefferson’s inaugu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efferson’s Inauguration takes place on March 4, 1801 in Washington, D.C.—the 1st done the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nfinished White House and Capitol were just about the only buildings in tow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The Election of 180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hn Adams, the 1st President to live in Washington, D.C., leaves before Jefferson’s inaugur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fferson’s Inauguration takes place on March 4, 1801 in Washington, D.C.—the 1st done the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nfinished White House and Capitol were just about the only buildings in tow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The Election of 18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deralists fear what Jefferson will say—will he start a new revol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efferson, surprisingly, calls for unity—he states “We are all Republicans, we are all Federalis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efferson DOES NOT propose to change or destroy the structure of the federal gover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The Election of 180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deralists fear what Jefferson will say—will he start a new revolu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fferson, surprisingly, calls for unity—he states “We are all Republicans, we are all Federalis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fferson DOES NOT propose to change or destroy the structure of the federal govern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 Accomplishments made during early part of Jefferson’s 1st te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pointed Albert Gallatin as Secretary of the Treasu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t military spend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duced the army from 4000 to 2500 m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duced the navy from 25 to 7 ship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duced national debt from $83 million to $45 mill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t ALL internal tax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Accomplishments made during early part of Jefferson’s 1st ter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ointed Albert Gallatin as Secretary of the Treasu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t military spend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uced the army from 4000 to 2500 me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uced the navy from 25 to 7 ship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uced national debt from $83 million to $45 mill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t ALL internal tax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 Accomplishments made during early part of Jefferson’s 1st te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ly source of government income: tariffs and sales of Western l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 the Alien and Sedition Acts expi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Accomplishments made during early part of Jefferson’s 1st ter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ly source of government income: tariffs and sales of Western lan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 the Alien and Sedition Acts expi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Issues with the Cour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bury vs. Madison:  Does William Marbury, one of John Adams’ last minute “midnight judges,” receive his commission to be judge or no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efferson had James Madison refuse to give the commission to Marbu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ssue went before the Supreme Cou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uling became a precedent—an example for future court ca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Issues with the Cour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bury vs. Madison:  Does William Marbury, one of John Adams’ last minute “midnight judges,” receive his commission to be judge or no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fferson had James Madison refuse to give the commission to Marbu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sue went before the Supreme Cour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ling became a precedent—an example for future court ca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Issues with the Cour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 Marbury vs. Madison, the Supreme Court established the concept of “Judicial Review” of law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dicial Review means that the Court may decide if a law is constitutional or no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a law is judged to be unconstitutional, or goes against the U.S. Constitution, then the law ceases to be a la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Issues with the Cour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Marbury vs. Madison, the Supreme Court established the concept of “Judicial Review” of law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dicial Review means that the Court may decide if a law is constitutional or no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 law is judged to be unconstitutional, or goes against the U.S. Constitution, then the law ceases to be a law.</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The Louisiana Purcha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1800, the western boundary of the U.S. was the Mississipp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ouisiana Territory, that is all lands west of the Mississippi River which drained into the river, was originally controlled by Fra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part of losing the French-Indian War, France ceded, or gave, the Louisiana Territory to Spai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The Louisiana Purcha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1800, the western boundary of the U.S. was the Mississippi.</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uisiana Territory, that is all lands west of the Mississippi River which drained into the river, was originally controlled by Fran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part of losing the French-Indian War, France ceded, or gave, the Louisiana Territory to Spai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The Louisiana Purcha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ouisiana Territory continued to be controlled by Spain until 18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war fought in Europe between Spain and France ended with a victory for Napoleon and the Fren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retly, the Louisiana Territory was transferred from Spain to France as a result of that European wa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The Louisiana Purcha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uisiana Territory continued to be controlled by Spain until 180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ar fought in Europe between Spain and France ended with a victory for Napoleon and the Frenc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retly, the Louisiana Territory was transferred from Spain to France as a result of that European wa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The Louisiana Purcha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efferson learned that Louisiana Territory was now controlled by Fra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ench ownership of the Louisiana Territory posed several problems for the U.S.—mainly the French were popular with the Indians and the French presence blocked any sort of westward movement by U.S. citizens into the Louisiana Territ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The Louisiana Purcha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fferson learned that Louisiana Territory was now controlled by Fran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nch ownership of the Louisiana Territory posed several problems for the U.S.—mainly the French were popular with the Indians and the French presence blocked any sort of westward movement by U.S. citizens into the Louisiana Territ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The Louisiana Purcha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ther major problem involved the city of New Orleans.  New Orleans controlled all river trade.  River trade came from not only the Louisiana Territory, but also from the United States.  If France decided to close the city of New Orleans to U.S. trade, then the U.S. would suffer great economic hardshi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The Louisiana Purcha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ther major problem involved the city of New Orleans.  New Orleans controlled all river trade.  River trade came from not only the Louisiana Territory, but also from the United States.  If France decided to close the city of New Orleans to U.S. trade, then the U.S. would suffer great economic hardshi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Background and Educ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ther: Peter Jeffers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ke most sons of land owners, he studied land survey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duated from William and Mary University in Williamsburg, V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ll, red-headed, qui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Background and Educ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her: Peter Jeffers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ke most sons of land owners, he studied land survey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duated from William and Mary University in Williamsburg, V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l, red-headed, quie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The Louisiana Purcha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efferson realized the problems involved with France owning the Louisiana Territ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efferson sends Robert Livingston and James Monroe to buy New Orleans and West Florida for $2 million from Fra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vingston and Monroe may spend UP to $10 mill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The Louisiana Purcha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fferson realized the problems involved with France owning the Louisiana Territ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fferson sends Robert Livingston and James Monroe to buy New Orleans and West Florida for $2 million from Fran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vingston and Monroe may spend UP to $10 mill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The Louisiana Purcha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spite being more money and more land than expected, both Livingston and Monroe quickly agree to the de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eal poses a personal problem for Jefferson—is this small government?  Still, Jefferson agrees to the de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gress debates the issue—lots of money involved—still, they agree to 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The Louisiana Purcha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pite being more money and more land than expected, both Livingston and Monroe quickly agree to the de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al poses a personal problem for Jefferson—is this small government?  Still, Jefferson agrees to the de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gress debates the issue—lots of money involved—still, they agree to i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The Louisiana Purcha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poleon experiences slave rebellion trouble in the French colony of Saint Domingue located in the Caribbe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poleon also needs money for another war with Great Britain.  He decides to sell ALL of the Louisiana Territory.  His price:  $15 mill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The Louisiana Purcha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poleon experiences slave rebellion trouble in the French colony of Saint Domingue located in the Caribbe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poleon also needs money for another war with Great Britain.  He decides to sell ALL of the Louisiana Territory.  His price:  $15 mill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The Louisiana Purcha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The Louisiana Purcha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Lewis and Cla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a variety of reasons, Jefferson decides to send a military expedition to explore the Louisiana Territ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efferson’s personal secretary, Captain Meriwether Lewis, is placed in charge of the expedition.  The men on this expediton are called the Corps of Discove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wis was to explore the territory, map it, find a water route to the Pacific, make friends with the Native Americans, and drive out all French and/or British traders if possi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riwether Lew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Lewis and Clar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variety of reasons, Jefferson decides to send a military expedition to explore the Louisiana Territ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fferson’s personal secretary, Captain Meriwether Lewis, is placed in charge of the expedition.  The men on this expediton are called the Corps of Discove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wis was to explore the territory, map it, find a water route to the Pacific, make friends with the Native Americans, and drive out all French and/or British traders if possib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riwether Lew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Lewis and Cla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wis selects Lt. William Clark as a co-commander.  The army refuses to recognize co-commanders so Clark remains a lieuten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en of the Corps of Discovery are told that Clark is a Captain and a co-commander of the expedi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wis and Clark, along with the other members of the Corps of Discovery, depart St. Louis on May 14, 1804 and travels upriv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stop for the winter of 1805 in the Mandan villages and create Fort Mand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liam Cla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Lewis and Clar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wis selects Lt. William Clark as a co-commander.  The army refuses to recognize co-commanders so Clark remains a lieutena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n of the Corps of Discovery are told that Clark is a Captain and a co-commander of the expedi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wis and Clark, along with the other members of the Corps of Discovery, depart St. Louis on May 14, 1804 and travels upriv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stop for the winter of 1805 in the Mandan villages and create Fort Mand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iam Clar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Lewis and Cla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Fort Mandan, Lewis and Clark hire the French trader Toussaint Charbonneau as an interpreter and guide.  The true prize was Charbonneau’s 2nd wife, Sacagawea and Sacagawea’s newborn infant s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rbonneau proves useless.  Sacagawea, while not a guide, does prove helpful: no war party would travel with a woman and young child.  Sacagawea’s presence eases tensions between Corps of Discovery and the Indi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Lewis and Clar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Fort Mandan, Lewis and Clark hire the French trader Toussaint Charbonneau as an interpreter and guide.  The true prize was Charbonneau’s 2nd wife, Sacagawea and Sacagawea’s newborn infant s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bonneau proves useless.  Sacagawea, while not a guide, does prove helpful: no war party would travel with a woman and young child.  Sacagawea’s presence eases tensions between Corps of Discovery and the India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Lewis and Cla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rps of Discovery reach the Pacific Ocean on November 7, 1805.  Clark writes: “Ocean in view! O! The jo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American vote involving an African-American (York), a female (Sacagawea), and men of several different nationalities takes place to decide where to stay for the win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rps of Discovery create Fort Clatsop and spend the 1806 winter on the Pacific coast.  They experience problems with the nat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Lewis and Clar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rps of Discovery reach the Pacific Ocean on November 7, 1805.  Clark writes: “Ocean in view! O! The jo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American vote involving an African-American (York), a female (Sacagawea), and men of several different nationalities takes place to decide where to stay for the win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rps of Discovery create Fort Clatsop and spend the 1806 winter on the Pacific coast.  They experience problems with the nativ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Lewis and Cla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journey becomes a race down the Missouri River.  Lewis and Clark arrive in St. Louis on September 23, 180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traveled almost 8,000 miles along the journey.  They mapped the entire distance using “line of sight” approximations.  They were off by only 4 mil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Lewis and Clar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ourney becomes a race down the Missouri River.  Lewis and Clark arrive in St. Louis on September 23, 180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traveled almost 8,000 miles along the journey.  They mapped the entire distance using “line of sight” approximations.  They were off by only 4 mil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Zebulon Pik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Zebulon Pike also explores the western territor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ike reaches the Colorado area and finds the mountain which now bears his name:  Pike’s Pea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ike then moves south into the Spanish territories which eventually become Texas and Mexic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 Zebulon Pik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ebulon Pike also explores the western territor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ke reaches the Colorado area and finds the mountain which now bears his name:  Pike’s Pea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ke then moves south into the Spanish territories which eventually become Texas and Mexic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Political Belief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overnment which governs least, governs b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ongly favored States Rights as opposed to a strong national gover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lieved in a strict construction, or strict interpretation, of the U.S.Constit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nted to end all taxes of any kind paid by U.S. citiz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Political Belief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overnment which governs least, governs be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ongly favored States Rights as opposed to a strong national govern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ieved in a strict construction, or strict interpretation, of the U.S.Constitu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nted to end all taxes of any kind paid by U.S. citize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Jefferson’s Reel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1804, Jefferson was unquestioned success as a President.  He was easily reelec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rr decided to run for governor of New York.  Hamilton criticized Burr; Burr challenged Hamilton to a duel; Burr shoots and kills Hamilton.  Burr’s term as Vice President was not quite over at the time of the due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Jefferson’s Reele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1804, Jefferson was unquestioned success as a President.  He was easily reelect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rr decided to run for governor of New York.  Hamilton criticized Burr; Burr challenged Hamilton to a duel; Burr shoots and kills Hamilton.  Burr’s term as Vice President was not quite over at the time of the due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 Jefferson’s 2nd Te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irates from the Barbary Coast States in the Mediterranean Sea demand tribute from U.S. trade ship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efferson refuses to pay the tribu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arbary pirates from Tripoli declare war on the 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efferson does not want to fight; instead, he orders a blockade of the port of Tripoli.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 Jefferson’s 2nd Ter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rates from the Barbary Coast States in the Mediterranean Sea demand tribute from U.S. trade ship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fferson refuses to pay the tribu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arbary pirates from Tripoli declare war on the 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fferson does not want to fight; instead, he orders a blockade of the port of Tripoli.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 Jefferson’s 2nd Te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lockade eventually works.  The U.S. forces the pirates to sign a peace treaty which ends all tribute pay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ilitary action is popular in the U.S., but shows the need for a U.S. nav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efferson puts aside his own personal problems with the government paying for a navy, and the country develops a stronger defen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 Jefferson’s 2nd Ter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lockade eventually works.  The U.S. forces the pirates to sign a peace treaty which ends all tribute payme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ilitary action is popular in the U.S., but shows the need for a U.S. nav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fferson puts aside his own personal problems with the government paying for a navy, and the country develops a stronger defen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 Jefferson’s 2nd Te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eat Britain continues its policy of impress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pressment is when the British kidnap U.S. sailors and force them to work as British sail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mpressment issue becomes a big deal with the Chesapeake-Leopard Affair in June 180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 Jefferson’s 2nd Ter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at Britain continues its policy of impress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ressment is when the British kidnap U.S. sailors and force them to work as British sailo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pressment issue becomes a big deal with the Chesapeake-Leopard Affair in June 180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 Jefferson’s 2nd Te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efferson deals with the impressment issue by asking for an embargo, or block of trade, against both Great Britain and Fra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gress passes the Embargo Act of 1807.  The main victim of the law was neither Great Britain nor France—it was the U.S. merchants who could no longer trade with either count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 Jefferson’s 2nd Ter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fferson deals with the impressment issue by asking for an embargo, or block of trade, against both Great Britain and Fran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gress passes the Embargo Act of 1807.  The main victim of the law was neither Great Britain nor France—it was the U.S. merchants who could no longer trade with either count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 Jefferson’s 2nd Te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mbargo Act proves EXTREMELY unpopular and Jefferson’s popularity suffers as a resul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ntually, Congress repealed the Embargo Act and replaced it with the Non-Intercourse A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on-Intercourse Act was no more successful than the Embargo Act.  American merchants and shipowners suffered great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efferson leaves office with a loss of resp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 Jefferson’s 2nd Ter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mbargo Act proves EXTREMELY unpopular and Jefferson’s popularity suffers as a resul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ually, Congress repealed the Embargo Act and replaced it with the Non-Intercourse Ac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on-Intercourse Act was no more successful than the Embargo Act.  American merchants and shipowners suffered greatl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fferson leaves office with a loss of respec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 Jefferson after the Presidenc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mes Madison, the author of the Constitution, a Democratic-Republican, and Jefferson’s hand-picked successor becomes the next Presid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dison leads the country during the War of 181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 Jefferson after the Presidenc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mes Madison, the author of the Constitution, a Democratic-Republican, and Jefferson’s hand-picked successor becomes the next Presid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dison leads the country during the War of 18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 Jefferson after the Presidenc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efferson renews his friendship with his long-term friend and political rival, John Ada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efferson and Adams exchange tons of letters with each ot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omas Jefferson and John Adams both die on the same day: July 4, 1826.  It was the 50th anniversary of the Declaration of Independence which both men help wri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 Jefferson after the Presidenc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fferson renews his friendship with his long-term friend and political rival, John Ada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fferson and Adams exchange tons of letters with each oth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omas Jefferson and John Adams both die on the same day: July 4, 1826.  It was the 50th anniversary of the Declaration of Independence which both men help wri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Accomplishments Prior to becoming Presid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rote the first draft of the Declaration of Independ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rote the Statute of Virginia for Religious Freed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eated the University of Virgin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rved as an ambassador to Europe from the United Stat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ccomplishments Prior to becoming Presid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ote the first draft of the Declaration of Independen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ote the Statute of Virginia for Religious Freed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d the University of Virgin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d as an ambassador to Europe from the United Stat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The Election of 18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mocratic-Republican Candidat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omas Jefferson and Aaron Bur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The Election of 180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cratic-Republican Candidat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omas Jefferson and Aaron Bur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The Election of 18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deralist Candidat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John Adams and Charles C. Pinckne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The Election of 180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deralist Candidat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hn Adams and Charles C. Pinckne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The Election of 18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ams would have won re-election, perhaps easily, had Alexander Hamilton not split the Federalist Par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The Election of 180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ams would have won re-election, perhaps easily, had Alexander Hamilton not split the Federalist Part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The Election of 18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the Democratic-Republicans won the el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oth winning candidates, Jefferson and Burr, received 73 electoral vo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ion was settled the House of Representatives after 35 vo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milton swings the election to Jefferson and angers Bur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The Election of 180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the Democratic-Republicans won the ele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winning candidates, Jefferson and Burr, received 73 electoral vot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ion was settled the House of Representatives after 35 vot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milton swings the election to Jefferson and angers Bur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The Election of 18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essed up election pointed out the need for a Constitutional amendment regarding the Presidential election proc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12th Amendment modified the Constitution so that the President and the Vice-President are elected using separate ballo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The Election of 180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ssed up election pointed out the need for a Constitutional amendment regarding the Presidential election proc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2th Amendment modified the Constitution so that the President and the Vice-President are elected using separate ballo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509DA4-9BFE-4F5C-B31D-62084AF2BB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932420-936D-4808-A041-E1FBDC382E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406A88-C4C3-4A53-96CD-A7643B3FA0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BFAE7B-7AF1-4EA1-8AC0-0739AF4D0B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B81D6C-BE07-4255-A05D-A598AB35AD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72C9C4-55CF-4439-817F-400159E69D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99A833-96B3-480F-B476-ABF6857061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F9F8E1-3927-4ED7-B2C3-1838546C7E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DBE3C2-395C-4C57-9468-42F867ED5B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CDC23E-0038-4404-8B91-44BF38A6B7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82A123-6162-40CE-B662-3D06CE4E80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0D3C85-ED38-4EC7-9240-65DDC64062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C2393-F12D-463D-B6E3-B831E72DFF9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762120" y="41144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omas Jefferson</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5333760"/>
            <a:ext cx="6400800" cy="609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untry’s Greatest President</a:t>
            </a:r>
            <a:endParaRPr b="0" lang="en-US" sz="3200" spc="-1" strike="noStrike">
              <a:solidFill>
                <a:srgbClr val="000000"/>
              </a:solidFill>
              <a:latin typeface="Arial"/>
            </a:endParaRPr>
          </a:p>
        </p:txBody>
      </p:sp>
      <p:pic>
        <p:nvPicPr>
          <p:cNvPr id="50" name="Picture 4" descr="thomas-jefferson-picture"/>
          <p:cNvPicPr/>
          <p:nvPr/>
        </p:nvPicPr>
        <p:blipFill>
          <a:blip r:embed="rId1"/>
          <a:stretch/>
        </p:blipFill>
        <p:spPr>
          <a:xfrm>
            <a:off x="2743200" y="533520"/>
            <a:ext cx="3809880" cy="3666960"/>
          </a:xfrm>
          <a:prstGeom prst="rect">
            <a:avLst/>
          </a:prstGeom>
          <a:ln w="0">
            <a:noFill/>
          </a:ln>
        </p:spPr>
      </p:pic>
      <p:sp>
        <p:nvSpPr>
          <p:cNvPr id="5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 The Election of 1800</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hn Adams, the 1</a:t>
            </a:r>
            <a:r>
              <a:rPr b="0" lang="en-US" sz="3200" spc="-1" strike="noStrike" baseline="30000">
                <a:solidFill>
                  <a:srgbClr val="000000"/>
                </a:solidFill>
                <a:latin typeface="Arial"/>
              </a:rPr>
              <a:t>st</a:t>
            </a:r>
            <a:r>
              <a:rPr b="0" lang="en-US" sz="3200" spc="-1" strike="noStrike">
                <a:solidFill>
                  <a:srgbClr val="000000"/>
                </a:solidFill>
                <a:latin typeface="Arial"/>
              </a:rPr>
              <a:t> President to live in Washington, D.C., leaves before Jefferson’s inaugur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fferson’s Inauguration takes place on March 4, 1801 in Washington, D.C.—the 1</a:t>
            </a:r>
            <a:r>
              <a:rPr b="0" lang="en-US" sz="3200" spc="-1" strike="noStrike" baseline="30000">
                <a:solidFill>
                  <a:srgbClr val="000000"/>
                </a:solidFill>
                <a:latin typeface="Arial"/>
              </a:rPr>
              <a:t>st</a:t>
            </a:r>
            <a:r>
              <a:rPr b="0" lang="en-US" sz="3200" spc="-1" strike="noStrike">
                <a:solidFill>
                  <a:srgbClr val="000000"/>
                </a:solidFill>
                <a:latin typeface="Arial"/>
              </a:rPr>
              <a:t> done the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unfinished White House and Capitol were just about the only buildings in town</a:t>
            </a:r>
            <a:endParaRPr b="0" lang="en-US" sz="3200" spc="-1" strike="noStrike">
              <a:solidFill>
                <a:srgbClr val="000000"/>
              </a:solidFill>
              <a:latin typeface="Arial"/>
            </a:endParaRPr>
          </a:p>
        </p:txBody>
      </p:sp>
      <p:sp>
        <p:nvSpPr>
          <p:cNvPr id="8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 The Election of 1800</a:t>
            </a: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ederalists fear what Jefferson will say—will he start a new revolu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fferson, surprisingly, calls for unity—he states “We are all Republicans, we are all Federalis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fferson DOES NOT propose to change or destroy the structure of the federal government.</a:t>
            </a:r>
            <a:endParaRPr b="0" lang="en-US" sz="3200" spc="-1" strike="noStrike">
              <a:solidFill>
                <a:srgbClr val="000000"/>
              </a:solidFill>
              <a:latin typeface="Arial"/>
            </a:endParaRPr>
          </a:p>
        </p:txBody>
      </p:sp>
      <p:sp>
        <p:nvSpPr>
          <p:cNvPr id="8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5. Accomplishments made during early part of Jefferson’s 1</a:t>
            </a:r>
            <a:r>
              <a:rPr b="0" lang="en-US" sz="4000" spc="-1" strike="noStrike" baseline="30000">
                <a:solidFill>
                  <a:srgbClr val="000000"/>
                </a:solidFill>
                <a:latin typeface="Arial"/>
              </a:rPr>
              <a:t>st</a:t>
            </a:r>
            <a:r>
              <a:rPr b="0" lang="en-US" sz="4000" spc="-1" strike="noStrike">
                <a:solidFill>
                  <a:srgbClr val="000000"/>
                </a:solidFill>
                <a:latin typeface="Arial"/>
              </a:rPr>
              <a:t> term</a:t>
            </a:r>
            <a:endParaRPr b="0" lang="en-US" sz="40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ointed Albert Gallatin as Secretary of the Treasur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t military spend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duced the army from 4000 to 2500 m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duced the navy from 25 to 7 ship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duced national debt from $83 million to $45 mill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t ALL internal taxes</a:t>
            </a:r>
            <a:endParaRPr b="0" lang="en-US" sz="3200" spc="-1" strike="noStrike">
              <a:solidFill>
                <a:srgbClr val="000000"/>
              </a:solidFill>
              <a:latin typeface="Arial"/>
            </a:endParaRPr>
          </a:p>
        </p:txBody>
      </p:sp>
      <p:sp>
        <p:nvSpPr>
          <p:cNvPr id="8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5. Accomplishments made during early part of Jefferson’s 1</a:t>
            </a:r>
            <a:r>
              <a:rPr b="0" lang="en-US" sz="4000" spc="-1" strike="noStrike" baseline="30000">
                <a:solidFill>
                  <a:srgbClr val="000000"/>
                </a:solidFill>
                <a:latin typeface="Arial"/>
              </a:rPr>
              <a:t>st</a:t>
            </a:r>
            <a:r>
              <a:rPr b="0" lang="en-US" sz="4000" spc="-1" strike="noStrike">
                <a:solidFill>
                  <a:srgbClr val="000000"/>
                </a:solidFill>
                <a:latin typeface="Arial"/>
              </a:rPr>
              <a:t> term</a:t>
            </a:r>
            <a:endParaRPr b="0" lang="en-US" sz="40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ly source of government income: tariffs and sales of Western lan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t the Alien and Sedition Acts expire</a:t>
            </a:r>
            <a:endParaRPr b="0" lang="en-US" sz="3200" spc="-1" strike="noStrike">
              <a:solidFill>
                <a:srgbClr val="000000"/>
              </a:solidFill>
              <a:latin typeface="Arial"/>
            </a:endParaRPr>
          </a:p>
        </p:txBody>
      </p:sp>
      <p:sp>
        <p:nvSpPr>
          <p:cNvPr id="9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6. Issues with the Courts</a:t>
            </a: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bury vs. Madison:  Does William Marbury, one of John Adams’ last minute “midnight judges,” receive his commission to be judge or no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fferson had James Madison refuse to give the commission to Marbury</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sue went before the Supreme Cour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uling became a precedent—an example for future court cases</a:t>
            </a:r>
            <a:endParaRPr b="0" lang="en-US" sz="3200" spc="-1" strike="noStrike">
              <a:solidFill>
                <a:srgbClr val="000000"/>
              </a:solidFill>
              <a:latin typeface="Arial"/>
            </a:endParaRPr>
          </a:p>
        </p:txBody>
      </p:sp>
      <p:sp>
        <p:nvSpPr>
          <p:cNvPr id="9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6. Issues with the Courts</a:t>
            </a: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th Marbury vs. Madison, the Supreme Court established the concept of “Judicial Review” of law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dicial Review means that the Court may decide if a law is constitutional or no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a law is judged to be unconstitutional, or goes against the U.S. Constitution, then the law ceases to be a law.</a:t>
            </a:r>
            <a:endParaRPr b="0" lang="en-US" sz="3200" spc="-1" strike="noStrike">
              <a:solidFill>
                <a:srgbClr val="000000"/>
              </a:solidFill>
              <a:latin typeface="Arial"/>
            </a:endParaRPr>
          </a:p>
        </p:txBody>
      </p:sp>
      <p:sp>
        <p:nvSpPr>
          <p:cNvPr id="9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7. The Louisiana Purchase</a:t>
            </a: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1800, the western boundary of the U.S. was the Mississippi.</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Louisiana Territory, that is all lands west of the Mississippi River which drained into the river, was originally controlled by Franc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part of losing the French-Indian War, France ceded, or gave, the Louisiana Territory to Spain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7. The Louisiana Purchase</a:t>
            </a: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Louisiana Territory continued to be controlled by Spain until 1800.</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war fought in Europe between Spain and France ended with a victory for Napoleon and the Frenc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retly, the Louisiana Territory was transferred from Spain to France as a result of that European war.  </a:t>
            </a:r>
            <a:endParaRPr b="0" lang="en-US" sz="3200" spc="-1" strike="noStrike">
              <a:solidFill>
                <a:srgbClr val="000000"/>
              </a:solidFill>
              <a:latin typeface="Arial"/>
            </a:endParaRPr>
          </a:p>
        </p:txBody>
      </p:sp>
      <p:sp>
        <p:nvSpPr>
          <p:cNvPr id="10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7. The Louisiana Purchase</a:t>
            </a: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fferson learned that Louisiana Territory was now controlled by Franc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ench ownership of the Louisiana Territory posed several problems for the U.S.—mainly the French were popular with the Indians and the French presence blocked any sort of westward movement by U.S. citizens into the Louisiana Territory</a:t>
            </a:r>
            <a:endParaRPr b="0" lang="en-US" sz="3200" spc="-1" strike="noStrike">
              <a:solidFill>
                <a:srgbClr val="000000"/>
              </a:solidFill>
              <a:latin typeface="Arial"/>
            </a:endParaRPr>
          </a:p>
        </p:txBody>
      </p:sp>
      <p:sp>
        <p:nvSpPr>
          <p:cNvPr id="10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7. The Louisiana Purchase</a:t>
            </a: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other major problem involved the city of New Orleans.  New Orleans controlled all river trade.  River trade came from not only the Louisiana Territory, but also from the United States.  If France decided to close the city of New Orleans to U.S. trade, then the U.S. would suffer great economic hardship.</a:t>
            </a:r>
            <a:endParaRPr b="0" lang="en-US" sz="3200" spc="-1" strike="noStrike">
              <a:solidFill>
                <a:srgbClr val="000000"/>
              </a:solidFill>
              <a:latin typeface="Arial"/>
            </a:endParaRPr>
          </a:p>
        </p:txBody>
      </p:sp>
      <p:sp>
        <p:nvSpPr>
          <p:cNvPr id="11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 Background and Education</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ther: Peter Jeffers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ke most sons of land owners, he studied land survey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aduated from William and Mary University in Williamsburg, V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l, red-headed, quiet</a:t>
            </a:r>
            <a:endParaRPr b="0" lang="en-US" sz="3200" spc="-1" strike="noStrike">
              <a:solidFill>
                <a:srgbClr val="000000"/>
              </a:solidFill>
              <a:latin typeface="Arial"/>
            </a:endParaRPr>
          </a:p>
        </p:txBody>
      </p:sp>
      <p:sp>
        <p:nvSpPr>
          <p:cNvPr id="5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7. The Louisiana Purchase</a:t>
            </a: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fferson realized the problems involved with France owning the Louisiana Territor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fferson sends Robert Livingston and James Monroe to buy New Orleans and West Florida for $2 million from Fra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vingston and Monroe may spend UP to $10 million.</a:t>
            </a:r>
            <a:endParaRPr b="0" lang="en-US" sz="3200" spc="-1" strike="noStrike">
              <a:solidFill>
                <a:srgbClr val="000000"/>
              </a:solidFill>
              <a:latin typeface="Arial"/>
            </a:endParaRPr>
          </a:p>
        </p:txBody>
      </p:sp>
      <p:sp>
        <p:nvSpPr>
          <p:cNvPr id="11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7. The Louisiana Purchase</a:t>
            </a: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pite being more money and more land than expected, both Livingston and Monroe quickly agree to the de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eal poses a personal problem for Jefferson—is this small government?  Still, Jefferson agrees to the de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gress debates the issue—lots of money involved—still, they agree to it.</a:t>
            </a:r>
            <a:endParaRPr b="0" lang="en-US" sz="3200" spc="-1" strike="noStrike">
              <a:solidFill>
                <a:srgbClr val="000000"/>
              </a:solidFill>
              <a:latin typeface="Arial"/>
            </a:endParaRPr>
          </a:p>
        </p:txBody>
      </p:sp>
      <p:sp>
        <p:nvSpPr>
          <p:cNvPr id="11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7. The Louisiana Purchase</a:t>
            </a:r>
            <a:endParaRPr b="0" lang="en-US" sz="4400" spc="-1" strike="noStrike">
              <a:solidFill>
                <a:srgbClr val="000000"/>
              </a:solidFill>
              <a:latin typeface="Arial"/>
            </a:endParaRPr>
          </a:p>
        </p:txBody>
      </p:sp>
      <p:sp>
        <p:nvSpPr>
          <p:cNvPr id="11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poleon experiences slave rebellion trouble in the French colony of Saint Domingue located in the Caribbea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poleon also needs money for another war with Great Britain.  He decides to sell ALL of the Louisiana Territory.  His price:  $15 million.</a:t>
            </a:r>
            <a:endParaRPr b="0" lang="en-US" sz="3200" spc="-1" strike="noStrike">
              <a:solidFill>
                <a:srgbClr val="000000"/>
              </a:solidFill>
              <a:latin typeface="Arial"/>
            </a:endParaRPr>
          </a:p>
        </p:txBody>
      </p:sp>
      <p:sp>
        <p:nvSpPr>
          <p:cNvPr id="11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7. The Louisiana Purchase</a:t>
            </a:r>
            <a:endParaRPr b="0" lang="en-US" sz="4400" spc="-1" strike="noStrike">
              <a:solidFill>
                <a:srgbClr val="000000"/>
              </a:solidFill>
              <a:latin typeface="Arial"/>
            </a:endParaRPr>
          </a:p>
        </p:txBody>
      </p:sp>
      <p:pic>
        <p:nvPicPr>
          <p:cNvPr id="121" name="Picture 4" descr="louisianamapbig"/>
          <p:cNvPicPr/>
          <p:nvPr/>
        </p:nvPicPr>
        <p:blipFill>
          <a:blip r:embed="rId1"/>
          <a:stretch/>
        </p:blipFill>
        <p:spPr>
          <a:xfrm>
            <a:off x="304920" y="1295280"/>
            <a:ext cx="8601120" cy="5413320"/>
          </a:xfrm>
          <a:prstGeom prst="rect">
            <a:avLst/>
          </a:prstGeom>
          <a:ln w="0">
            <a:noFill/>
          </a:ln>
        </p:spPr>
      </p:pic>
      <p:sp>
        <p:nvSpPr>
          <p:cNvPr id="12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8. Lewis and Clark</a:t>
            </a:r>
            <a:endParaRPr b="0" lang="en-US" sz="4400" spc="-1" strike="noStrike">
              <a:solidFill>
                <a:srgbClr val="000000"/>
              </a:solidFill>
              <a:latin typeface="Arial"/>
            </a:endParaRPr>
          </a:p>
        </p:txBody>
      </p:sp>
      <p:sp>
        <p:nvSpPr>
          <p:cNvPr id="124" name="PlaceHolder 2"/>
          <p:cNvSpPr>
            <a:spLocks noGrp="1"/>
          </p:cNvSpPr>
          <p:nvPr>
            <p:ph/>
          </p:nvPr>
        </p:nvSpPr>
        <p:spPr>
          <a:xfrm>
            <a:off x="457200" y="1600200"/>
            <a:ext cx="5562720" cy="49528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 variety of reasons, Jefferson decides to send a military expedition to explore the Louisiana Territor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efferson’s personal secretary, Captain Meriwether Lewis, is placed in charge of the expedition.  The men on this expediton are called the Corps of Discover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wis was to explore the territory, map it, find a water route to the Pacific, make friends with the Native Americans, and drive out all French and/or British traders if possible.</a:t>
            </a:r>
            <a:endParaRPr b="0" lang="en-US" sz="2400" spc="-1" strike="noStrike">
              <a:solidFill>
                <a:srgbClr val="000000"/>
              </a:solidFill>
              <a:latin typeface="Arial"/>
            </a:endParaRPr>
          </a:p>
        </p:txBody>
      </p:sp>
      <p:pic>
        <p:nvPicPr>
          <p:cNvPr id="125" name="Picture 4" descr="Lewis_1"/>
          <p:cNvPicPr/>
          <p:nvPr/>
        </p:nvPicPr>
        <p:blipFill>
          <a:blip r:embed="rId1"/>
          <a:stretch/>
        </p:blipFill>
        <p:spPr>
          <a:xfrm>
            <a:off x="6095880" y="1752480"/>
            <a:ext cx="2705400" cy="3772080"/>
          </a:xfrm>
          <a:prstGeom prst="rect">
            <a:avLst/>
          </a:prstGeom>
          <a:ln w="0">
            <a:noFill/>
          </a:ln>
        </p:spPr>
      </p:pic>
      <p:sp>
        <p:nvSpPr>
          <p:cNvPr id="126" name="Text Box 6"/>
          <p:cNvSpPr/>
          <p:nvPr/>
        </p:nvSpPr>
        <p:spPr>
          <a:xfrm>
            <a:off x="6248520" y="5715000"/>
            <a:ext cx="24192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riwether Lewis</a:t>
            </a:r>
            <a:endParaRPr b="0" lang="en-US" sz="2000" spc="-1" strike="noStrike">
              <a:solidFill>
                <a:srgbClr val="000000"/>
              </a:solidFill>
              <a:latin typeface="Arial"/>
            </a:endParaRPr>
          </a:p>
        </p:txBody>
      </p:sp>
      <p:sp>
        <p:nvSpPr>
          <p:cNvPr id="12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8. Lewis and Clark</a:t>
            </a:r>
            <a:endParaRPr b="0" lang="en-US" sz="4400" spc="-1" strike="noStrike">
              <a:solidFill>
                <a:srgbClr val="000000"/>
              </a:solidFill>
              <a:latin typeface="Arial"/>
            </a:endParaRPr>
          </a:p>
        </p:txBody>
      </p:sp>
      <p:sp>
        <p:nvSpPr>
          <p:cNvPr id="129" name="PlaceHolder 2"/>
          <p:cNvSpPr>
            <a:spLocks noGrp="1"/>
          </p:cNvSpPr>
          <p:nvPr>
            <p:ph/>
          </p:nvPr>
        </p:nvSpPr>
        <p:spPr>
          <a:xfrm>
            <a:off x="457200" y="1294920"/>
            <a:ext cx="5410080" cy="5410440"/>
          </a:xfrm>
          <a:prstGeom prst="rect">
            <a:avLst/>
          </a:prstGeom>
          <a:noFill/>
          <a:ln w="0">
            <a:noFill/>
          </a:ln>
        </p:spPr>
        <p:txBody>
          <a:bodyPr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wis selects Lt. William Clark as a co-commander.  The army refuses to recognize co-commanders so Clark remains a lieutena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en of the Corps of Discovery are told that Clark is a Captain and a co-commander of the expedition.  </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wis and Clark, along with the other members of the Corps of Discovery, depart St. Louis on May 14, 1804 and travels upriv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stop for the winter of 1805 in the Mandan villages and create Fort Mandan.</a:t>
            </a:r>
            <a:endParaRPr b="0" lang="en-US" sz="2400" spc="-1" strike="noStrike">
              <a:solidFill>
                <a:srgbClr val="000000"/>
              </a:solidFill>
              <a:latin typeface="Arial"/>
            </a:endParaRPr>
          </a:p>
        </p:txBody>
      </p:sp>
      <p:pic>
        <p:nvPicPr>
          <p:cNvPr id="130" name="Picture 4" descr="Clark_1"/>
          <p:cNvPicPr/>
          <p:nvPr/>
        </p:nvPicPr>
        <p:blipFill>
          <a:blip r:embed="rId1"/>
          <a:stretch/>
        </p:blipFill>
        <p:spPr>
          <a:xfrm>
            <a:off x="6095880" y="1905120"/>
            <a:ext cx="2705400" cy="3800520"/>
          </a:xfrm>
          <a:prstGeom prst="rect">
            <a:avLst/>
          </a:prstGeom>
          <a:ln w="0">
            <a:noFill/>
          </a:ln>
        </p:spPr>
      </p:pic>
      <p:sp>
        <p:nvSpPr>
          <p:cNvPr id="131" name="Text Box 6"/>
          <p:cNvSpPr/>
          <p:nvPr/>
        </p:nvSpPr>
        <p:spPr>
          <a:xfrm>
            <a:off x="6324480" y="5867280"/>
            <a:ext cx="24195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lliam Clark</a:t>
            </a:r>
            <a:endParaRPr b="0" lang="en-US" sz="2000" spc="-1" strike="noStrike">
              <a:solidFill>
                <a:srgbClr val="000000"/>
              </a:solidFill>
              <a:latin typeface="Arial"/>
            </a:endParaRPr>
          </a:p>
        </p:txBody>
      </p:sp>
      <p:sp>
        <p:nvSpPr>
          <p:cNvPr id="13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8. Lewis and Clark</a:t>
            </a:r>
            <a:endParaRPr b="0" lang="en-US" sz="4400" spc="-1" strike="noStrike">
              <a:solidFill>
                <a:srgbClr val="000000"/>
              </a:solidFill>
              <a:latin typeface="Arial"/>
            </a:endParaRPr>
          </a:p>
        </p:txBody>
      </p:sp>
      <p:sp>
        <p:nvSpPr>
          <p:cNvPr id="13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Fort Mandan, Lewis and Clark hire the French trader Toussaint Charbonneau as an interpreter and guide.  The true prize was Charbonneau’s 2</a:t>
            </a:r>
            <a:r>
              <a:rPr b="0" lang="en-US" sz="2800" spc="-1" strike="noStrike" baseline="30000">
                <a:solidFill>
                  <a:srgbClr val="000000"/>
                </a:solidFill>
                <a:latin typeface="Arial"/>
              </a:rPr>
              <a:t>nd</a:t>
            </a:r>
            <a:r>
              <a:rPr b="0" lang="en-US" sz="2800" spc="-1" strike="noStrike">
                <a:solidFill>
                  <a:srgbClr val="000000"/>
                </a:solidFill>
                <a:latin typeface="Arial"/>
              </a:rPr>
              <a:t> wife, Sacagawea and Sacagawea’s newborn infant s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rbonneau proves useless.  Sacagawea, while not a guide, does prove helpful: no war party would travel with a woman and young child.  Sacagawea’s presence eases tensions between Corps of Discovery and the Indians.</a:t>
            </a:r>
            <a:endParaRPr b="0" lang="en-US" sz="2800" spc="-1" strike="noStrike">
              <a:solidFill>
                <a:srgbClr val="000000"/>
              </a:solidFill>
              <a:latin typeface="Arial"/>
            </a:endParaRPr>
          </a:p>
        </p:txBody>
      </p:sp>
      <p:sp>
        <p:nvSpPr>
          <p:cNvPr id="13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8. Lewis and Clark</a:t>
            </a:r>
            <a:endParaRPr b="0" lang="en-US" sz="4400" spc="-1" strike="noStrike">
              <a:solidFill>
                <a:srgbClr val="000000"/>
              </a:solidFill>
              <a:latin typeface="Arial"/>
            </a:endParaRPr>
          </a:p>
        </p:txBody>
      </p:sp>
      <p:sp>
        <p:nvSpPr>
          <p:cNvPr id="13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rps of Discovery reach the Pacific Ocean on November 7, 1805.  Clark writes: “Ocean in view! O! The jo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irst American vote involving an African-American (York), a female (Sacagawea), and men of several different nationalities takes place to decide where to stay for the winte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rps of Discovery create Fort Clatsop and spend the 1806 winter on the Pacific coast.  They experience problems with the natives.</a:t>
            </a:r>
            <a:endParaRPr b="0" lang="en-US" sz="2800" spc="-1" strike="noStrike">
              <a:solidFill>
                <a:srgbClr val="000000"/>
              </a:solidFill>
              <a:latin typeface="Arial"/>
            </a:endParaRPr>
          </a:p>
        </p:txBody>
      </p:sp>
      <p:sp>
        <p:nvSpPr>
          <p:cNvPr id="13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8. Lewis and Clark</a:t>
            </a:r>
            <a:endParaRPr b="0" lang="en-US" sz="4400" spc="-1" strike="noStrike">
              <a:solidFill>
                <a:srgbClr val="000000"/>
              </a:solidFill>
              <a:latin typeface="Arial"/>
            </a:endParaRPr>
          </a:p>
        </p:txBody>
      </p:sp>
      <p:sp>
        <p:nvSpPr>
          <p:cNvPr id="14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journey becomes a race down the Missouri River.  Lewis and Clark arrive in St. Louis on September 23, 1806.</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y traveled almost 8,000 miles along the journey.  They mapped the entire distance using “line of sight” approximations.  They were off by only 4 miles. </a:t>
            </a:r>
            <a:endParaRPr b="0" lang="en-US" sz="3200" spc="-1" strike="noStrike">
              <a:solidFill>
                <a:srgbClr val="000000"/>
              </a:solidFill>
              <a:latin typeface="Arial"/>
            </a:endParaRPr>
          </a:p>
        </p:txBody>
      </p:sp>
      <p:sp>
        <p:nvSpPr>
          <p:cNvPr id="14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9. Zebulon Pike</a:t>
            </a:r>
            <a:endParaRPr b="0" lang="en-US" sz="4400" spc="-1" strike="noStrike">
              <a:solidFill>
                <a:srgbClr val="000000"/>
              </a:solidFill>
              <a:latin typeface="Arial"/>
            </a:endParaRPr>
          </a:p>
        </p:txBody>
      </p:sp>
      <p:sp>
        <p:nvSpPr>
          <p:cNvPr id="143" name="PlaceHolder 2"/>
          <p:cNvSpPr>
            <a:spLocks noGrp="1"/>
          </p:cNvSpPr>
          <p:nvPr>
            <p:ph/>
          </p:nvPr>
        </p:nvSpPr>
        <p:spPr>
          <a:xfrm>
            <a:off x="3733920" y="1676520"/>
            <a:ext cx="5029200" cy="452592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ebulon Pike also explores the western territory. </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ike reaches the Colorado area and finds the mountain which now bears his name:  Pike’s Peak.</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ike then moves south into the Spanish territories which eventually become Texas and Mexico.</a:t>
            </a:r>
            <a:endParaRPr b="0" lang="en-US" sz="2800" spc="-1" strike="noStrike">
              <a:solidFill>
                <a:srgbClr val="000000"/>
              </a:solidFill>
              <a:latin typeface="Arial"/>
            </a:endParaRPr>
          </a:p>
        </p:txBody>
      </p:sp>
      <p:pic>
        <p:nvPicPr>
          <p:cNvPr id="144" name="Picture 7" descr="ZebulonPike"/>
          <p:cNvPicPr/>
          <p:nvPr/>
        </p:nvPicPr>
        <p:blipFill>
          <a:blip r:embed="rId1"/>
          <a:stretch/>
        </p:blipFill>
        <p:spPr>
          <a:xfrm>
            <a:off x="533520" y="1676520"/>
            <a:ext cx="3028680" cy="4495680"/>
          </a:xfrm>
          <a:prstGeom prst="rect">
            <a:avLst/>
          </a:prstGeom>
          <a:ln w="0">
            <a:noFill/>
          </a:ln>
        </p:spPr>
      </p:pic>
      <p:sp>
        <p:nvSpPr>
          <p:cNvPr id="14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 Political Beliefs</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government which governs least, governs bes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ongly favored States Rights as opposed to a strong national govern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lieved in a strict construction, or strict interpretation, of the U.S.Constitu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nted to end all taxes of any kind paid by U.S. citizens</a:t>
            </a:r>
            <a:endParaRPr b="0" lang="en-US" sz="3200" spc="-1" strike="noStrike">
              <a:solidFill>
                <a:srgbClr val="000000"/>
              </a:solidFill>
              <a:latin typeface="Arial"/>
            </a:endParaRPr>
          </a:p>
        </p:txBody>
      </p:sp>
      <p:sp>
        <p:nvSpPr>
          <p:cNvPr id="5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0.  Jefferson’s Reelection</a:t>
            </a:r>
            <a:endParaRPr b="0" lang="en-US" sz="4400" spc="-1" strike="noStrike">
              <a:solidFill>
                <a:srgbClr val="000000"/>
              </a:solidFill>
              <a:latin typeface="Arial"/>
            </a:endParaRPr>
          </a:p>
        </p:txBody>
      </p:sp>
      <p:sp>
        <p:nvSpPr>
          <p:cNvPr id="14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1804, Jefferson was unquestioned success as a President.  He was easily reelecte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rr decided to run for governor of New York.  Hamilton criticized Burr; Burr challenged Hamilton to a duel; Burr shoots and kills Hamilton.  Burr’s term as Vice President was not quite over at the time of the duel. </a:t>
            </a:r>
            <a:endParaRPr b="0" lang="en-US" sz="3200" spc="-1" strike="noStrike">
              <a:solidFill>
                <a:srgbClr val="000000"/>
              </a:solidFill>
              <a:latin typeface="Arial"/>
            </a:endParaRPr>
          </a:p>
        </p:txBody>
      </p:sp>
      <p:sp>
        <p:nvSpPr>
          <p:cNvPr id="14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1. Jefferson’s 2</a:t>
            </a:r>
            <a:r>
              <a:rPr b="0" lang="en-US" sz="4400" spc="-1" strike="noStrike" baseline="30000">
                <a:solidFill>
                  <a:srgbClr val="000000"/>
                </a:solidFill>
                <a:latin typeface="Arial"/>
              </a:rPr>
              <a:t>nd</a:t>
            </a:r>
            <a:r>
              <a:rPr b="0" lang="en-US" sz="4400" spc="-1" strike="noStrike">
                <a:solidFill>
                  <a:srgbClr val="000000"/>
                </a:solidFill>
                <a:latin typeface="Arial"/>
              </a:rPr>
              <a:t> Term</a:t>
            </a: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irates from the Barbary Coast States in the Mediterranean Sea demand tribute from U.S. trade ship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fferson refuses to pay the tribu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arbary pirates from Tripoli declare war on the U.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fferson does not want to fight; instead, he orders a blockade of the port of Tripoli. </a:t>
            </a:r>
            <a:endParaRPr b="0" lang="en-US" sz="3200" spc="-1" strike="noStrike">
              <a:solidFill>
                <a:srgbClr val="000000"/>
              </a:solidFill>
              <a:latin typeface="Arial"/>
            </a:endParaRPr>
          </a:p>
        </p:txBody>
      </p:sp>
      <p:sp>
        <p:nvSpPr>
          <p:cNvPr id="15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1. Jefferson’s 2</a:t>
            </a:r>
            <a:r>
              <a:rPr b="0" lang="en-US" sz="4400" spc="-1" strike="noStrike" baseline="30000">
                <a:solidFill>
                  <a:srgbClr val="000000"/>
                </a:solidFill>
                <a:latin typeface="Arial"/>
              </a:rPr>
              <a:t>nd</a:t>
            </a:r>
            <a:r>
              <a:rPr b="0" lang="en-US" sz="4400" spc="-1" strike="noStrike">
                <a:solidFill>
                  <a:srgbClr val="000000"/>
                </a:solidFill>
                <a:latin typeface="Arial"/>
              </a:rPr>
              <a:t> Term</a:t>
            </a: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lockade eventually works.  The U.S. forces the pirates to sign a peace treaty which ends all tribute payment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ilitary action is popular in the U.S., but shows the need for a U.S. navy.</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fferson puts aside his own personal problems with the government paying for a navy, and the country develops a stronger defense.</a:t>
            </a:r>
            <a:endParaRPr b="0" lang="en-US" sz="3200" spc="-1" strike="noStrike">
              <a:solidFill>
                <a:srgbClr val="000000"/>
              </a:solidFill>
              <a:latin typeface="Arial"/>
            </a:endParaRPr>
          </a:p>
        </p:txBody>
      </p:sp>
      <p:sp>
        <p:nvSpPr>
          <p:cNvPr id="15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1. Jefferson’s 2</a:t>
            </a:r>
            <a:r>
              <a:rPr b="0" lang="en-US" sz="4400" spc="-1" strike="noStrike" baseline="30000">
                <a:solidFill>
                  <a:srgbClr val="000000"/>
                </a:solidFill>
                <a:latin typeface="Arial"/>
              </a:rPr>
              <a:t>nd</a:t>
            </a:r>
            <a:r>
              <a:rPr b="0" lang="en-US" sz="4400" spc="-1" strike="noStrike">
                <a:solidFill>
                  <a:srgbClr val="000000"/>
                </a:solidFill>
                <a:latin typeface="Arial"/>
              </a:rPr>
              <a:t> Term</a:t>
            </a: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eat Britain continues its policy of impress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ressment is when the British kidnap U.S. sailors and force them to work as British sailo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impressment issue becomes a big deal with the Chesapeake-Leopard Affair in June 1807.</a:t>
            </a:r>
            <a:endParaRPr b="0" lang="en-US" sz="3200" spc="-1" strike="noStrike">
              <a:solidFill>
                <a:srgbClr val="000000"/>
              </a:solidFill>
              <a:latin typeface="Arial"/>
            </a:endParaRPr>
          </a:p>
        </p:txBody>
      </p:sp>
      <p:sp>
        <p:nvSpPr>
          <p:cNvPr id="15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1. Jefferson’s 2</a:t>
            </a:r>
            <a:r>
              <a:rPr b="0" lang="en-US" sz="4400" spc="-1" strike="noStrike" baseline="30000">
                <a:solidFill>
                  <a:srgbClr val="000000"/>
                </a:solidFill>
                <a:latin typeface="Arial"/>
              </a:rPr>
              <a:t>nd</a:t>
            </a:r>
            <a:r>
              <a:rPr b="0" lang="en-US" sz="4400" spc="-1" strike="noStrike">
                <a:solidFill>
                  <a:srgbClr val="000000"/>
                </a:solidFill>
                <a:latin typeface="Arial"/>
              </a:rPr>
              <a:t> Term</a:t>
            </a:r>
            <a:endParaRPr b="0" lang="en-US" sz="4400" spc="-1" strike="noStrike">
              <a:solidFill>
                <a:srgbClr val="000000"/>
              </a:solidFill>
              <a:latin typeface="Arial"/>
            </a:endParaRPr>
          </a:p>
        </p:txBody>
      </p:sp>
      <p:sp>
        <p:nvSpPr>
          <p:cNvPr id="1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fferson deals with the impressment issue by asking for an embargo, or block of trade, against both Great Britain and Franc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gress passes the Embargo Act of 1807.  The main victim of the law was neither Great Britain nor France—it was the U.S. merchants who could no longer trade with either country.</a:t>
            </a:r>
            <a:endParaRPr b="0" lang="en-US" sz="3200" spc="-1" strike="noStrike">
              <a:solidFill>
                <a:srgbClr val="000000"/>
              </a:solidFill>
              <a:latin typeface="Arial"/>
            </a:endParaRPr>
          </a:p>
        </p:txBody>
      </p:sp>
      <p:sp>
        <p:nvSpPr>
          <p:cNvPr id="16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1. Jefferson’s 2</a:t>
            </a:r>
            <a:r>
              <a:rPr b="0" lang="en-US" sz="4400" spc="-1" strike="noStrike" baseline="30000">
                <a:solidFill>
                  <a:srgbClr val="000000"/>
                </a:solidFill>
                <a:latin typeface="Arial"/>
              </a:rPr>
              <a:t>nd</a:t>
            </a:r>
            <a:r>
              <a:rPr b="0" lang="en-US" sz="4400" spc="-1" strike="noStrike">
                <a:solidFill>
                  <a:srgbClr val="000000"/>
                </a:solidFill>
                <a:latin typeface="Arial"/>
              </a:rPr>
              <a:t> Term</a:t>
            </a: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mbargo Act proves EXTREMELY unpopular and Jefferson’s popularity suffers as a resul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ntually, Congress repealed the Embargo Act and replaced it with the Non-Intercourse Ac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on-Intercourse Act was no more successful than the Embargo Act.  American merchants and shipowners suffered greatl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efferson leaves office with a loss of respect.</a:t>
            </a:r>
            <a:endParaRPr b="0" lang="en-US" sz="2800" spc="-1" strike="noStrike">
              <a:solidFill>
                <a:srgbClr val="000000"/>
              </a:solidFill>
              <a:latin typeface="Arial"/>
            </a:endParaRPr>
          </a:p>
        </p:txBody>
      </p:sp>
      <p:sp>
        <p:nvSpPr>
          <p:cNvPr id="16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12. Jefferson after the Presidency</a:t>
            </a:r>
            <a:endParaRPr b="0" lang="en-US" sz="4000" spc="-1" strike="noStrike">
              <a:solidFill>
                <a:srgbClr val="000000"/>
              </a:solidFill>
              <a:latin typeface="Arial"/>
            </a:endParaRPr>
          </a:p>
        </p:txBody>
      </p:sp>
      <p:sp>
        <p:nvSpPr>
          <p:cNvPr id="165" name="PlaceHolder 2"/>
          <p:cNvSpPr>
            <a:spLocks noGrp="1"/>
          </p:cNvSpPr>
          <p:nvPr>
            <p:ph/>
          </p:nvPr>
        </p:nvSpPr>
        <p:spPr>
          <a:xfrm>
            <a:off x="228600" y="1600200"/>
            <a:ext cx="4952880" cy="4038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mes Madison, the author of the Constitution, a Democratic-Republican, and Jefferson’s hand-picked successor becomes the next Presid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dison leads the country during the War of 1812.</a:t>
            </a:r>
            <a:endParaRPr b="0" lang="en-US" sz="2800" spc="-1" strike="noStrike">
              <a:solidFill>
                <a:srgbClr val="000000"/>
              </a:solidFill>
              <a:latin typeface="Arial"/>
            </a:endParaRPr>
          </a:p>
        </p:txBody>
      </p:sp>
      <p:pic>
        <p:nvPicPr>
          <p:cNvPr id="166" name="Picture 4" descr="james-madison-picture"/>
          <p:cNvPicPr/>
          <p:nvPr/>
        </p:nvPicPr>
        <p:blipFill>
          <a:blip r:embed="rId1"/>
          <a:stretch/>
        </p:blipFill>
        <p:spPr>
          <a:xfrm>
            <a:off x="5334120" y="1600200"/>
            <a:ext cx="3571920" cy="3314880"/>
          </a:xfrm>
          <a:prstGeom prst="rect">
            <a:avLst/>
          </a:prstGeom>
          <a:ln w="0">
            <a:noFill/>
          </a:ln>
        </p:spPr>
      </p:pic>
      <p:sp>
        <p:nvSpPr>
          <p:cNvPr id="16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12. Jefferson after the Presidency</a:t>
            </a:r>
            <a:endParaRPr b="0" lang="en-US" sz="4000" spc="-1" strike="noStrike">
              <a:solidFill>
                <a:srgbClr val="000000"/>
              </a:solidFill>
              <a:latin typeface="Arial"/>
            </a:endParaRPr>
          </a:p>
        </p:txBody>
      </p:sp>
      <p:sp>
        <p:nvSpPr>
          <p:cNvPr id="1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fferson renews his friendship with his long-term friend and political rival, John Adam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fferson and Adams exchange tons of letters with each other.</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omas Jefferson and John Adams both die on the same day: July 4, 1826.  It was the 50</a:t>
            </a:r>
            <a:r>
              <a:rPr b="0" lang="en-US" sz="3200" spc="-1" strike="noStrike" baseline="30000">
                <a:solidFill>
                  <a:srgbClr val="000000"/>
                </a:solidFill>
                <a:latin typeface="Arial"/>
              </a:rPr>
              <a:t>th</a:t>
            </a:r>
            <a:r>
              <a:rPr b="0" lang="en-US" sz="3200" spc="-1" strike="noStrike">
                <a:solidFill>
                  <a:srgbClr val="000000"/>
                </a:solidFill>
                <a:latin typeface="Arial"/>
              </a:rPr>
              <a:t> anniversary of the Declaration of Independence which both men help write.</a:t>
            </a:r>
            <a:endParaRPr b="0" lang="en-US" sz="3200" spc="-1" strike="noStrike">
              <a:solidFill>
                <a:srgbClr val="000000"/>
              </a:solidFill>
              <a:latin typeface="Arial"/>
            </a:endParaRPr>
          </a:p>
        </p:txBody>
      </p:sp>
      <p:sp>
        <p:nvSpPr>
          <p:cNvPr id="17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3. Accomplishments Prior to becoming President</a:t>
            </a:r>
            <a:endParaRPr b="0" lang="en-US" sz="40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ote the first draft of the Declaration of Independe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ote the Statute of Virginia for Religious Freedo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ed the University of Virgini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d as an ambassador to Europe from the United States  </a:t>
            </a:r>
            <a:endParaRPr b="0" lang="en-US" sz="3200" spc="-1" strike="noStrike">
              <a:solidFill>
                <a:srgbClr val="000000"/>
              </a:solidFill>
              <a:latin typeface="Arial"/>
            </a:endParaRPr>
          </a:p>
        </p:txBody>
      </p:sp>
      <p:sp>
        <p:nvSpPr>
          <p:cNvPr id="6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 The Election of 1800</a:t>
            </a:r>
            <a:endParaRPr b="0" lang="en-US" sz="4400" spc="-1" strike="noStrike">
              <a:solidFill>
                <a:srgbClr val="000000"/>
              </a:solidFill>
              <a:latin typeface="Arial"/>
            </a:endParaRPr>
          </a:p>
        </p:txBody>
      </p:sp>
      <p:sp>
        <p:nvSpPr>
          <p:cNvPr id="62" name="PlaceHolder 2"/>
          <p:cNvSpPr>
            <a:spLocks noGrp="1"/>
          </p:cNvSpPr>
          <p:nvPr>
            <p:ph/>
          </p:nvPr>
        </p:nvSpPr>
        <p:spPr>
          <a:xfrm>
            <a:off x="457200" y="1599840"/>
            <a:ext cx="8153280" cy="12193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mocratic-Republican Candidate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omas Jefferson and Aaron Burr</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3" name="Picture 4" descr="thomas-jefferson-picture"/>
          <p:cNvPicPr/>
          <p:nvPr/>
        </p:nvPicPr>
        <p:blipFill>
          <a:blip r:embed="rId1"/>
          <a:stretch/>
        </p:blipFill>
        <p:spPr>
          <a:xfrm>
            <a:off x="1143000" y="2895480"/>
            <a:ext cx="3262320" cy="3138480"/>
          </a:xfrm>
          <a:prstGeom prst="rect">
            <a:avLst/>
          </a:prstGeom>
          <a:ln w="0">
            <a:noFill/>
          </a:ln>
        </p:spPr>
      </p:pic>
      <p:pic>
        <p:nvPicPr>
          <p:cNvPr id="64" name="Picture 6" descr="aaronburr-sm"/>
          <p:cNvPicPr/>
          <p:nvPr/>
        </p:nvPicPr>
        <p:blipFill>
          <a:blip r:embed="rId2"/>
          <a:stretch/>
        </p:blipFill>
        <p:spPr>
          <a:xfrm>
            <a:off x="5715000" y="2895480"/>
            <a:ext cx="2349360" cy="3124440"/>
          </a:xfrm>
          <a:prstGeom prst="rect">
            <a:avLst/>
          </a:prstGeom>
          <a:ln w="0">
            <a:noFill/>
          </a:ln>
        </p:spPr>
      </p:pic>
      <p:sp>
        <p:nvSpPr>
          <p:cNvPr id="6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 The Election of 1800</a:t>
            </a:r>
            <a:endParaRPr b="0" lang="en-US" sz="4400" spc="-1" strike="noStrike">
              <a:solidFill>
                <a:srgbClr val="000000"/>
              </a:solidFill>
              <a:latin typeface="Arial"/>
            </a:endParaRPr>
          </a:p>
        </p:txBody>
      </p:sp>
      <p:sp>
        <p:nvSpPr>
          <p:cNvPr id="67" name="PlaceHolder 2"/>
          <p:cNvSpPr>
            <a:spLocks noGrp="1"/>
          </p:cNvSpPr>
          <p:nvPr>
            <p:ph/>
          </p:nvPr>
        </p:nvSpPr>
        <p:spPr>
          <a:xfrm>
            <a:off x="457200" y="1599840"/>
            <a:ext cx="8153280" cy="1143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deralist Candidate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John Adams and Charles C. Pinckne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8" name="Picture 4" descr="JohnAdams"/>
          <p:cNvPicPr/>
          <p:nvPr/>
        </p:nvPicPr>
        <p:blipFill>
          <a:blip r:embed="rId1"/>
          <a:stretch/>
        </p:blipFill>
        <p:spPr>
          <a:xfrm>
            <a:off x="1263600" y="2895480"/>
            <a:ext cx="2743200" cy="3200400"/>
          </a:xfrm>
          <a:prstGeom prst="rect">
            <a:avLst/>
          </a:prstGeom>
          <a:ln w="0">
            <a:noFill/>
          </a:ln>
        </p:spPr>
      </p:pic>
      <p:pic>
        <p:nvPicPr>
          <p:cNvPr id="69" name="Picture 6" descr="CharlesCPinckney"/>
          <p:cNvPicPr/>
          <p:nvPr/>
        </p:nvPicPr>
        <p:blipFill>
          <a:blip r:embed="rId2"/>
          <a:stretch/>
        </p:blipFill>
        <p:spPr>
          <a:xfrm>
            <a:off x="5410080" y="2895480"/>
            <a:ext cx="2268720" cy="3200400"/>
          </a:xfrm>
          <a:prstGeom prst="rect">
            <a:avLst/>
          </a:prstGeom>
          <a:ln w="0">
            <a:noFill/>
          </a:ln>
        </p:spPr>
      </p:pic>
      <p:sp>
        <p:nvSpPr>
          <p:cNvPr id="7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 The Election of 1800</a:t>
            </a:r>
            <a:endParaRPr b="0" lang="en-US" sz="4400" spc="-1" strike="noStrike">
              <a:solidFill>
                <a:srgbClr val="000000"/>
              </a:solidFill>
              <a:latin typeface="Arial"/>
            </a:endParaRPr>
          </a:p>
        </p:txBody>
      </p:sp>
      <p:sp>
        <p:nvSpPr>
          <p:cNvPr id="72" name="PlaceHolder 2"/>
          <p:cNvSpPr>
            <a:spLocks noGrp="1"/>
          </p:cNvSpPr>
          <p:nvPr>
            <p:ph/>
          </p:nvPr>
        </p:nvSpPr>
        <p:spPr>
          <a:xfrm>
            <a:off x="456840" y="1599840"/>
            <a:ext cx="8381880" cy="15238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ams would have won re-election, perhaps easily, had Alexander Hamilton not split the Federalist Party </a:t>
            </a:r>
            <a:endParaRPr b="0" lang="en-US" sz="2800" spc="-1" strike="noStrike">
              <a:solidFill>
                <a:srgbClr val="000000"/>
              </a:solidFill>
              <a:latin typeface="Arial"/>
            </a:endParaRPr>
          </a:p>
        </p:txBody>
      </p:sp>
      <p:pic>
        <p:nvPicPr>
          <p:cNvPr id="73" name="Picture 4" descr="300px-Alexander_Hamilton"/>
          <p:cNvPicPr/>
          <p:nvPr/>
        </p:nvPicPr>
        <p:blipFill>
          <a:blip r:embed="rId1"/>
          <a:stretch/>
        </p:blipFill>
        <p:spPr>
          <a:xfrm>
            <a:off x="3479760" y="2971800"/>
            <a:ext cx="2540160" cy="3581280"/>
          </a:xfrm>
          <a:prstGeom prst="rect">
            <a:avLst/>
          </a:prstGeom>
          <a:ln w="0">
            <a:noFill/>
          </a:ln>
        </p:spPr>
      </p:pic>
      <p:sp>
        <p:nvSpPr>
          <p:cNvPr id="7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 The Election of 1800</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ead, the Democratic-Republicans won the elec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th winning candidates, Jefferson and Burr, received 73 electoral vot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ection was settled the House of Representatives after 35 vot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milton swings the election to Jefferson and angers Burr</a:t>
            </a:r>
            <a:endParaRPr b="0" lang="en-US" sz="3200" spc="-1" strike="noStrike">
              <a:solidFill>
                <a:srgbClr val="000000"/>
              </a:solidFill>
              <a:latin typeface="Arial"/>
            </a:endParaRPr>
          </a:p>
        </p:txBody>
      </p:sp>
      <p:sp>
        <p:nvSpPr>
          <p:cNvPr id="7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 The Election of 1800</a:t>
            </a: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essed up election pointed out the need for a Constitutional amendment regarding the Presidential election proce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12</a:t>
            </a:r>
            <a:r>
              <a:rPr b="0" lang="en-US" sz="3200" spc="-1" strike="noStrike" baseline="30000">
                <a:solidFill>
                  <a:srgbClr val="000000"/>
                </a:solidFill>
                <a:latin typeface="Arial"/>
              </a:rPr>
              <a:t>th</a:t>
            </a:r>
            <a:r>
              <a:rPr b="0" lang="en-US" sz="3200" spc="-1" strike="noStrike">
                <a:solidFill>
                  <a:srgbClr val="000000"/>
                </a:solidFill>
                <a:latin typeface="Arial"/>
              </a:rPr>
              <a:t> Amendment modified the Constitution so that the President and the Vice-President are elected using separate ballots.</a:t>
            </a:r>
            <a:endParaRPr b="0" lang="en-US" sz="3200" spc="-1" strike="noStrike">
              <a:solidFill>
                <a:srgbClr val="000000"/>
              </a:solidFill>
              <a:latin typeface="Arial"/>
            </a:endParaRPr>
          </a:p>
        </p:txBody>
      </p:sp>
      <p:sp>
        <p:nvSpPr>
          <p:cNvPr id="8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1T20:45:06Z</dcterms:created>
  <dc:creator>Jeff Stephenson</dc:creator>
  <dc:description/>
  <dc:language>en-US</dc:language>
  <cp:lastModifiedBy>Legion</cp:lastModifiedBy>
  <dcterms:modified xsi:type="dcterms:W3CDTF">2017-07-06T06:41:49Z</dcterms:modified>
  <cp:revision>11</cp:revision>
  <dc:subject/>
  <dc:title>PowerPoint Presentation  -  Thomas Jefferson</dc:title>
</cp:coreProperties>
</file>